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D82C-60CD-4689-B36A-90AE21301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F38D-E19E-4FE1-B984-6CD57C03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E297-20CC-4467-A1AC-F7DEFB4FB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0A1E-0478-44BF-92A8-DEDB12D01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D355-03EA-4E42-83C2-ACC9964B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4DBA-F612-4642-BD49-537EE5BD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4D2A-44E3-41B3-B61A-B6CCC77D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9F73-EC49-476E-82DE-FA064FD3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FE64-D85A-49B1-97FB-96E919B2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E1A7-E7DA-44EF-A444-E324438B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ADA2-F328-4FC4-97E0-F2E28B55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356C-8A8D-4B25-8282-357342F0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8DF8-73EF-4D50-98E2-41D972992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www.freeplaymusic.com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eb.mit.edu/invent/iow/rubik.html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72200" y="50292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553080" y="5105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3886200"/>
            <a:ext cx="2895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yton Giusef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/14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3657600"/>
            <a:ext cx="2057400" cy="1717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066680" y="228600"/>
            <a:ext cx="678204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ubik's Cub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3048120" y="289548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ed by: Erno Rub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5562720"/>
            <a:ext cx="51818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Army Ang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9/23/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343400" y="3962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Safar"/>
          <p:cNvPicPr/>
          <p:nvPr/>
        </p:nvPicPr>
        <p:blipFill>
          <a:blip r:embed="rId1"/>
          <a:stretch/>
        </p:blipFill>
        <p:spPr>
          <a:xfrm>
            <a:off x="228600" y="1676520"/>
            <a:ext cx="8686800" cy="2460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14600" y="5410080"/>
            <a:ext cx="64771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ubik’s Cub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ept. 19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rubik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00200" y="7621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no Rubik is the inventor of the Rubik’s Cub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Safar"/>
          <p:cNvPicPr/>
          <p:nvPr/>
        </p:nvPicPr>
        <p:blipFill>
          <a:blip r:embed="rId3"/>
          <a:stretch/>
        </p:blipFill>
        <p:spPr>
          <a:xfrm>
            <a:off x="304920" y="4648320"/>
            <a:ext cx="1485720" cy="19047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Rubik’s Cu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one of the Rubik’s cubes faces would be different colors at the st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26 square components and 54 outer surfaces, the number of alignments is in the multi-mill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every turn most of the colors will be mixed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no Rubik had patented the Rubik’s C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was a problem, at least two inventors had patented similar designs around that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bik’s Cube came out in 19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Erno Rub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no Rubik was born in Budapest in 194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no Rubik was born during the World War 2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no Rubik earns a degree in architecture in 196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no Rubik became a teacher in the interior dressing department at the Academy of Applied Arts and Crafts in Budap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13:58:30Z</dcterms:created>
  <dc:creator>install</dc:creator>
  <dc:description/>
  <dc:language>en-US</dc:language>
  <cp:lastModifiedBy>install</cp:lastModifiedBy>
  <dcterms:modified xsi:type="dcterms:W3CDTF">2011-09-26T13:56:39Z</dcterms:modified>
  <cp:revision>9</cp:revision>
  <dc:subject/>
  <dc:title>Slide 1</dc:title>
</cp:coreProperties>
</file>